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45.jpeg" ContentType="image/jpe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28.jpeg" ContentType="image/jpeg"/>
  <Override PartName="/ppt/media/image37.jpeg" ContentType="image/jpeg"/>
  <Override PartName="/ppt/media/image44.jpeg" ContentType="image/jpeg"/>
  <Override PartName="/ppt/media/image9.png" ContentType="image/png"/>
  <Override PartName="/ppt/media/image46.png" ContentType="image/png"/>
  <Override PartName="/ppt/media/image11.png" ContentType="image/png"/>
  <Override PartName="/ppt/media/image19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5.png" ContentType="image/png"/>
  <Override PartName="/ppt/media/image43.jpeg" ContentType="image/jpeg"/>
  <Override PartName="/ppt/media/image42.gif" ContentType="image/gif"/>
  <Override PartName="/ppt/media/image13.jpeg" ContentType="image/jpeg"/>
  <Override PartName="/ppt/media/image2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DE2-1880-4E52-937A-D2F3F7B0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7B3-24A8-4270-A37E-F4C1F4A3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FD7-2AEC-486F-9536-11BCA9C8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E58-3893-445D-BC02-269578A5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1D7E-2321-45E9-A058-9E5D9AC4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E496-80A1-4B4B-938A-ABC3BF72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FD95-9528-4CB7-844E-E0D09D22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0206-78CB-415F-B14F-CCCCCFCD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4279-D3C1-49EA-9D10-26D3F81F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89FE-AD27-4AEE-901E-5EB7AFE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AF11-6075-4331-A901-A15B900A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60C-244A-4408-9E67-DB216F16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BA69-5281-488B-92C0-59BB476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BE1E-DCFB-456B-8A07-78BC445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DE81-1CA0-4BA8-B3EF-BB2DD02B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374C-4839-46F4-9483-397C2727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9E97-0094-4D64-9DDD-A3BE0173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3C97-52E4-4F12-AA6A-67846419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8D2F-DD1E-4D8A-890B-AD27D823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CD06-4DF6-4063-99BF-3B390EF3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CF63-C740-49AD-AE64-A7381148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98C6-7F08-491D-BA50-F7F1C9FA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468-7D8F-44EE-8272-0F87FA0C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3D23-1685-464F-A6C8-F011130E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F327-AB2C-4626-A31C-6F27F39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AA814-75A4-489E-A611-58FC5075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AD58-9903-458D-ABB6-2BDEE8EA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81AE-CA11-4F31-83B1-59F330DE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D2F0-B752-49AC-825A-66265ED9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B542-648A-4657-A7CD-71B8ECCB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359C4-EB34-4323-9A7C-6EC022D7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B034D-29CE-49C9-96E5-A67A2B2F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E823-5CF2-4673-8534-F836756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A1E-DDB9-43CD-A622-9D63B5E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B4A5-1D10-4BEF-B2B0-578FFC62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8EA8-3828-4B4B-B5E8-94C4A0E2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934F-2440-4CB9-B574-6BC21AC0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97FD-89B9-4606-94B0-E6602C2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8298D-3117-4B38-813F-E7BB4DFD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8E48-1ED0-49F8-8B7C-FFDFF4A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4DDB-E0F9-4F63-A87C-FE68FFE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CA68-1601-443C-9C38-113D39E7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B2DF-9A50-49BC-9A7D-CD0B143D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853-6911-496C-8F21-54E0E96A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C00-7E96-4CF6-B339-3FC03DD7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2A0-D37A-47C6-A1AA-0EBC272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390-13F7-4779-9AE1-3C3B8F13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352-67B5-4B92-8992-3B7B3BE3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BF0F-8110-4162-BA6C-F3C7B275B6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47FF-FCC0-4523-8A91-2CF1A70272C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225A-868A-4CB4-A420-234B2CCA829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BD4F-149A-4138-8A0E-481552E7EF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918560" cy="1981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Adapted from Hempfield High Boot Camp , Cook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rowth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904760"/>
            <a:ext cx="40384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6" descr="http://whatdoclientsreallywant.com/wp-content/uploads/2012/09/big_apple_small_apple.jpg"/>
          <p:cNvPicPr/>
          <p:nvPr/>
        </p:nvPicPr>
        <p:blipFill>
          <a:blip r:embed="rId1"/>
          <a:stretch/>
        </p:blipFill>
        <p:spPr>
          <a:xfrm>
            <a:off x="152280" y="2590920"/>
            <a:ext cx="374040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http://www.deviantart.com/download/169407062/Life_Stages_by_dawningsun.png"/>
          <p:cNvPicPr/>
          <p:nvPr/>
        </p:nvPicPr>
        <p:blipFill>
          <a:blip r:embed="rId2"/>
          <a:stretch/>
        </p:blipFill>
        <p:spPr>
          <a:xfrm>
            <a:off x="4648320" y="2514600"/>
            <a:ext cx="41907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855800"/>
            <a:ext cx="34308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exual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90960" y="1860120"/>
            <a:ext cx="28954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8" descr="http://www.world-builders.org/lessons/less/les4/genes/asex.gif"/>
          <p:cNvPicPr/>
          <p:nvPr/>
        </p:nvPicPr>
        <p:blipFill>
          <a:blip r:embed="rId1"/>
          <a:stretch/>
        </p:blipFill>
        <p:spPr>
          <a:xfrm>
            <a:off x="5257800" y="2438280"/>
            <a:ext cx="3422520" cy="329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http://www.ewart.org.uk/biology/pics/sexual.gif"/>
          <p:cNvPicPr/>
          <p:nvPr/>
        </p:nvPicPr>
        <p:blipFill>
          <a:blip r:embed="rId2"/>
          <a:stretch/>
        </p:blipFill>
        <p:spPr>
          <a:xfrm>
            <a:off x="0" y="2514600"/>
            <a:ext cx="4581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nge through ti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bio1903.nicerweb.com/Locked/media/ch22/22_10ArtifSelection.jpg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ctotherms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ptiles, fish and amphibia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10" descr="http://www.sheppardsoftware.com/content/animals/kidscorner/images/classification/coldbloodedfrog.gif"/>
          <p:cNvPicPr/>
          <p:nvPr/>
        </p:nvPicPr>
        <p:blipFill>
          <a:blip r:embed="rId1"/>
          <a:stretch/>
        </p:blipFill>
        <p:spPr>
          <a:xfrm>
            <a:off x="930240" y="2666880"/>
            <a:ext cx="793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otherms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mmals and bir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bears are warm blooded animals"/>
          <p:cNvPicPr/>
          <p:nvPr/>
        </p:nvPicPr>
        <p:blipFill>
          <a:blip r:embed="rId1"/>
          <a:stretch/>
        </p:blipFill>
        <p:spPr>
          <a:xfrm>
            <a:off x="762120" y="2590920"/>
            <a:ext cx="77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regulation (osmoregul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http://renux.dmed.ed.ac.uk/EdREN/EdRenINFObits/hydronephrosisb.gif"/>
          <p:cNvPicPr/>
          <p:nvPr/>
        </p:nvPicPr>
        <p:blipFill>
          <a:blip r:embed="rId1"/>
          <a:stretch/>
        </p:blipFill>
        <p:spPr>
          <a:xfrm>
            <a:off x="2286000" y="1905120"/>
            <a:ext cx="47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5" descr="http://www.emc.maricopa.edu/faculty/farabee/biobk/gasexch1.gif"/>
          <p:cNvPicPr/>
          <p:nvPr/>
        </p:nvPicPr>
        <p:blipFill>
          <a:blip r:embed="rId1"/>
          <a:stretch/>
        </p:blipFill>
        <p:spPr>
          <a:xfrm>
            <a:off x="304920" y="2209680"/>
            <a:ext cx="4267080" cy="3686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http://rbssanimalsystems3.wikispaces.com/file/view/gills.gif/291073377/gills.gif"/>
          <p:cNvPicPr/>
          <p:nvPr/>
        </p:nvPicPr>
        <p:blipFill>
          <a:blip r:embed="rId2"/>
          <a:stretch/>
        </p:blipFill>
        <p:spPr>
          <a:xfrm>
            <a:off x="4876920" y="1447920"/>
            <a:ext cx="38955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Prokaryotes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43792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cellul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ck true nucle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ck membrane-bound organel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single loop of DN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ribosom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: bacte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876560" y="243792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 or multicellul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a true nucle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a wide variety of membrane-bound organel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DNA in chromosom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: fungi, protists, plants, anim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Content Placeholder 8" descr="http://www.phschool.com/science/biology_place/biocoach/images/cells/allcell.jpg"/>
          <p:cNvPicPr/>
          <p:nvPr/>
        </p:nvPicPr>
        <p:blipFill>
          <a:blip r:embed="rId1"/>
          <a:stretch/>
        </p:blipFill>
        <p:spPr>
          <a:xfrm>
            <a:off x="0" y="685800"/>
            <a:ext cx="87710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57150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Cell Organelles 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 tiny structures that carry out functions necessary for the cell to stay aliv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5" descr="http://www.enchantedlearning.com/subjects/plants/cell/anatomy.GIF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ich of the following is an example of homeostasis found in your bod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ou eat food because it tastes go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. you shiver because you are c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. you stay well because you take antibiotics when you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 si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. you get sick when invaded by a pathog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. you eat more and gain weigh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http://www.enchantedlearning.com/subjects/animals/cell/anatomy.GIF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22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5" descr="http://peer.tamu.edu/curriculum_modules/cell_biology/module_1/levels%20of%20organization.jpg"/>
          <p:cNvPicPr/>
          <p:nvPr/>
        </p:nvPicPr>
        <p:blipFill>
          <a:blip r:embed="rId1"/>
          <a:stretch/>
        </p:blipFill>
        <p:spPr>
          <a:xfrm>
            <a:off x="190512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7" descr="http://www.mlms.loganschools.org/~ksorensen/Cells/Cell%20Pictures/Levels%20of%20Organization%20jpg.JPG"/>
          <p:cNvPicPr/>
          <p:nvPr/>
        </p:nvPicPr>
        <p:blipFill>
          <a:blip r:embed="rId1"/>
          <a:stretch/>
        </p:blipFill>
        <p:spPr>
          <a:xfrm>
            <a:off x="1295280" y="0"/>
            <a:ext cx="632484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5" descr="http://images.emedicinehealth.com/images/eMedicineHealth/illustrations/blood_cells.jpg"/>
          <p:cNvPicPr/>
          <p:nvPr/>
        </p:nvPicPr>
        <p:blipFill>
          <a:blip r:embed="rId1"/>
          <a:stretch/>
        </p:blipFill>
        <p:spPr>
          <a:xfrm>
            <a:off x="228600" y="1447920"/>
            <a:ext cx="3124080" cy="3411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http://im.glogster.com/media/4/20/14/90/20149068.jpg"/>
          <p:cNvPicPr/>
          <p:nvPr/>
        </p:nvPicPr>
        <p:blipFill>
          <a:blip r:embed="rId2"/>
          <a:stretch/>
        </p:blipFill>
        <p:spPr>
          <a:xfrm>
            <a:off x="510552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upload.wikimedia.org/wikipedia/commons/thumb/b/bc/Neuron_Hand-tuned.svg/400px-Neuron_Hand-tuned.svg.png"/>
          <p:cNvPicPr/>
          <p:nvPr/>
        </p:nvPicPr>
        <p:blipFill>
          <a:blip r:embed="rId3"/>
          <a:stretch/>
        </p:blipFill>
        <p:spPr>
          <a:xfrm>
            <a:off x="2743200" y="4114800"/>
            <a:ext cx="46483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9" descr="http://preview.turbosquid.com/Preview/Content_2010_12_08__08_59_03/skincell04.jpg04eef3bf-4cbc-46ec-be2c-9cc856456abeLarger.jpg"/>
          <p:cNvPicPr/>
          <p:nvPr/>
        </p:nvPicPr>
        <p:blipFill>
          <a:blip r:embed="rId1"/>
          <a:stretch/>
        </p:blipFill>
        <p:spPr>
          <a:xfrm>
            <a:off x="5486400" y="17524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farm3.static.flickr.com/2640/4062055689_0f0a9747a9.jpg"/>
          <p:cNvPicPr/>
          <p:nvPr/>
        </p:nvPicPr>
        <p:blipFill>
          <a:blip r:embed="rId2"/>
          <a:stretch/>
        </p:blipFill>
        <p:spPr>
          <a:xfrm>
            <a:off x="533520" y="1447920"/>
            <a:ext cx="3524040" cy="2352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http://www.psychologytoday.com/files/u203/Sperm.jpg"/>
          <p:cNvPicPr/>
          <p:nvPr/>
        </p:nvPicPr>
        <p:blipFill>
          <a:blip r:embed="rId3"/>
          <a:stretch/>
        </p:blipFill>
        <p:spPr>
          <a:xfrm>
            <a:off x="2057400" y="38098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hyperphysics.phy-astr.gsu.edu/hbase/biology/biopic/alvlung.jpg"/>
          <p:cNvPicPr/>
          <p:nvPr/>
        </p:nvPicPr>
        <p:blipFill>
          <a:blip r:embed="rId1"/>
          <a:stretch/>
        </p:blipFill>
        <p:spPr>
          <a:xfrm>
            <a:off x="685800" y="1447920"/>
            <a:ext cx="2819520" cy="4903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apainlessjourney.files.wordpress.com/2010/09/17-intestinal-villi-jejunum-a.jpg"/>
          <p:cNvPicPr/>
          <p:nvPr/>
        </p:nvPicPr>
        <p:blipFill>
          <a:blip r:embed="rId2"/>
          <a:stretch/>
        </p:blipFill>
        <p:spPr>
          <a:xfrm>
            <a:off x="3962520" y="2133720"/>
            <a:ext cx="4616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lasma Membrane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uid Mosaic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5" descr="http://images.wikia.com/aecbio11/images/7/7d/Phospholopid_bilayer.gif"/>
          <p:cNvPicPr/>
          <p:nvPr/>
        </p:nvPicPr>
        <p:blipFill>
          <a:blip r:embed="rId1"/>
          <a:stretch/>
        </p:blipFill>
        <p:spPr>
          <a:xfrm>
            <a:off x="6477120" y="0"/>
            <a:ext cx="2455920" cy="187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http://eweb.furman.edu/~wworthen/bio111/2membrane.jpg"/>
          <p:cNvPicPr/>
          <p:nvPr/>
        </p:nvPicPr>
        <p:blipFill>
          <a:blip r:embed="rId2"/>
          <a:stretch/>
        </p:blipFill>
        <p:spPr>
          <a:xfrm>
            <a:off x="457200" y="1905120"/>
            <a:ext cx="794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5" descr="http://upload.wikimedia.org/wikipedia/commons/thumb/1/12/Diffusion.svg/220px-Diffusion.svg.png"/>
          <p:cNvPicPr/>
          <p:nvPr/>
        </p:nvPicPr>
        <p:blipFill>
          <a:blip r:embed="rId1"/>
          <a:stretch/>
        </p:blipFill>
        <p:spPr>
          <a:xfrm>
            <a:off x="152280" y="1295280"/>
            <a:ext cx="2513160" cy="153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ttp://www.biologyguide.net/img/notes/32.png"/>
          <p:cNvPicPr/>
          <p:nvPr/>
        </p:nvPicPr>
        <p:blipFill>
          <a:blip r:embed="rId2"/>
          <a:stretch/>
        </p:blipFill>
        <p:spPr>
          <a:xfrm>
            <a:off x="2590920" y="2584440"/>
            <a:ext cx="6705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5" descr="http://deltabiology.com/wp-content/uploads/2012/01/osmosis3.gif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7" descr="http://2.bp.blogspot.com/_hhUdKwzDmA4/S3LLpGCVZwI/AAAAAAAAAbk/TFdIqp9C_k4/s400/hyper,+hypo,+iso.jpg"/>
          <p:cNvPicPr/>
          <p:nvPr/>
        </p:nvPicPr>
        <p:blipFill>
          <a:blip r:embed="rId1"/>
          <a:stretch/>
        </p:blipFill>
        <p:spPr>
          <a:xfrm>
            <a:off x="152280" y="1600200"/>
            <a:ext cx="8534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at is the major difference between prokaryotes and eukaryot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Prokaryotes used photosynthesis and eukaryotes d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 use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Prokaryotes have a nucleus and eukaryotes do not have a nucle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Prokaryotes do not have DNA and eukaryotes do have D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Prokaryotes do not have a nucleus and eukaryotes do have a nucle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. Prokaryotes used photosynthesis while eukaryotes use respi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ilitated Dif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5" descr="http://4.bp.blogspot.com/_detzCStVbk8/TJbA6H6_39I/AAAAAAAAADw/5V3zzv42JJs/s1600/facilitated.jpg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ll Membrane Pu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Picture 5" descr="http://sbi3u0.yolasite.com/resources/0645.jpg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d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2" descr="http://kenpitts.net/bio/images/endocytosis.gif"/>
          <p:cNvPicPr/>
          <p:nvPr/>
        </p:nvPicPr>
        <p:blipFill>
          <a:blip r:embed="rId1"/>
          <a:stretch/>
        </p:blipFill>
        <p:spPr>
          <a:xfrm>
            <a:off x="0" y="2514600"/>
            <a:ext cx="1021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2" descr="http://kenpitts.net/bio/images/exocytosis.gif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nsport in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s vesi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olves the endoplasmic reticulum and golgi apparat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5" descr="http://carolguze.com/images/cellorganelles/er-golgi1.jpg"/>
          <p:cNvPicPr/>
          <p:nvPr/>
        </p:nvPicPr>
        <p:blipFill>
          <a:blip r:embed="rId1"/>
          <a:stretch/>
        </p:blipFill>
        <p:spPr>
          <a:xfrm>
            <a:off x="838080" y="1905120"/>
            <a:ext cx="704556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#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ow is osmosis different from diffus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 osmosis refers to the movement of ions across the membrane while diffusion is a special type of osmo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. osmosis is a special type of diffusion involving only wa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. osmosis requires energy and diffusion does no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. osmosis requires proteins and diffusion does no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hav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oostermiddle.stratfordk12.org/images/customer-images/living_vs_nonliving.JPG"/>
          <p:cNvPicPr/>
          <p:nvPr/>
        </p:nvPicPr>
        <p:blipFill>
          <a:blip r:embed="rId1"/>
          <a:stretch/>
        </p:blipFill>
        <p:spPr>
          <a:xfrm>
            <a:off x="366840" y="1981080"/>
            <a:ext cx="8253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e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cell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cell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4.bp.blogspot.com/_rYYcdMsVqUE/TUAdFdAvVDI/AAAAAAAAABc/VgJta_GKIIc/s1600/Amoeba.jpg"/>
          <p:cNvPicPr/>
          <p:nvPr/>
        </p:nvPicPr>
        <p:blipFill>
          <a:blip r:embed="rId1"/>
          <a:stretch/>
        </p:blipFill>
        <p:spPr>
          <a:xfrm>
            <a:off x="609480" y="2819520"/>
            <a:ext cx="3505320" cy="260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arthursclipart.org/elephants/elephants/elephant%20picture.gif"/>
          <p:cNvPicPr/>
          <p:nvPr/>
        </p:nvPicPr>
        <p:blipFill>
          <a:blip r:embed="rId2"/>
          <a:stretch/>
        </p:blipFill>
        <p:spPr>
          <a:xfrm>
            <a:off x="4648320" y="2514600"/>
            <a:ext cx="3962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ond to stimul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5" descr="http://mrbenton.com/images/stimresp.jpg"/>
          <p:cNvPicPr/>
          <p:nvPr/>
        </p:nvPicPr>
        <p:blipFill>
          <a:blip r:embed="rId1"/>
          <a:stretch/>
        </p:blipFill>
        <p:spPr>
          <a:xfrm>
            <a:off x="685800" y="1905120"/>
            <a:ext cx="2590920" cy="3289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biology.kenyon.edu/edwards/project/kathleen/images/pot2.gif"/>
          <p:cNvPicPr/>
          <p:nvPr/>
        </p:nvPicPr>
        <p:blipFill>
          <a:blip r:embed="rId2"/>
          <a:stretch/>
        </p:blipFill>
        <p:spPr>
          <a:xfrm>
            <a:off x="4724280" y="3048120"/>
            <a:ext cx="3594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tain homeosta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http://www.macronutrients.net/wp-content/uploads/2011/12/Homeostasis.gif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abo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utotrophs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Heterotrop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8" descr="http://companionplants.com/images/small-plant2.jpg"/>
          <p:cNvPicPr/>
          <p:nvPr/>
        </p:nvPicPr>
        <p:blipFill>
          <a:blip r:embed="rId1"/>
          <a:stretch/>
        </p:blipFill>
        <p:spPr>
          <a:xfrm>
            <a:off x="609480" y="2438280"/>
            <a:ext cx="3429000" cy="4191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animallamina.files.wordpress.com/2010/11/eating-hamster.jpg"/>
          <p:cNvPicPr/>
          <p:nvPr/>
        </p:nvPicPr>
        <p:blipFill>
          <a:blip r:embed="rId2"/>
          <a:stretch/>
        </p:blipFill>
        <p:spPr>
          <a:xfrm>
            <a:off x="4800600" y="2590920"/>
            <a:ext cx="36702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4:25:26Z</dcterms:created>
  <dc:creator>Administrator</dc:creator>
  <dc:description/>
  <dc:language>en-US</dc:language>
  <cp:lastModifiedBy>Dawn  Marshall</cp:lastModifiedBy>
  <dcterms:modified xsi:type="dcterms:W3CDTF">2013-03-14T14:07:53Z</dcterms:modified>
  <cp:revision>16</cp:revision>
  <dc:subject/>
  <dc:title>Bio Boot Camp</dc:title>
</cp:coreProperties>
</file>